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B47-5E13-4445-B0B1-DC2734ADA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kispaces offers free pages to k-12 educators, and they will also set up the accounts for you if you send in the usernames and passwords for you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25F-188C-4833-B2C7-B627AECD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869-1A04-4B6D-9739-346CE4F8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1FE-93B6-495B-8704-13FF9EDB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F6D-70A9-4A21-9E1A-931813F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7DC7-3C75-4768-AF7C-EA9316BD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3FAD-3239-496A-B272-5ADBE4C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8162-2029-48D9-A055-129DC878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01F6-F2DA-4E2E-B579-F14E4FBC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6A60-0A3F-43F6-B00E-4DB8846A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7197-66DA-4EE3-B3B9-65E231CD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207B-A032-4696-AA8C-CAD2062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FE1-CFD0-4B15-9B12-8DF299ED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F396-3620-46B3-875A-941CB74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D405-1AB3-453B-8F19-C95B7CE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2AED-60C9-4AAD-8713-2A2D1F4E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6D3F-A2E9-408E-A525-02F70CEB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878-B389-4632-8517-BDAF9DCB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8D4-7F35-4742-B50A-55EB482E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175-2D1E-4FE9-917B-50F5F083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3EA-4DE8-4E11-838F-47F470AE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3FE-96F8-419F-807C-DCB49481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78C-AAD0-4178-B989-58A203E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ECC-ECE5-4954-B3C4-41B1AF47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8CB-4B5D-40C5-BD9E-1569944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452-139D-4B0F-8FC1-17917884CBD6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DE04-5C72-46FA-A65B-7B901045CE6C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logg-ed.com/" TargetMode="External"/><Relationship Id="rId3" Type="http://schemas.openxmlformats.org/officeDocument/2006/relationships/hyperlink" Target="http://coolcatteacher.blogspot.com/" TargetMode="External"/><Relationship Id="rId4" Type="http://schemas.openxmlformats.org/officeDocument/2006/relationships/hyperlink" Target="http://blog.scottjelias.net/" TargetMode="External"/><Relationship Id="rId5" Type="http://schemas.openxmlformats.org/officeDocument/2006/relationships/hyperlink" Target="http://epiphanyinbaltimore.blogspot.com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2438280"/>
            <a:ext cx="6019920" cy="274320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080"/>
                </a:solidFill>
                <a:latin typeface="Verdana"/>
              </a:rPr>
              <a:t>How do you use technology in you classroom?</a:t>
            </a:r>
            <a:endParaRPr b="0" lang="en-US" sz="48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244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ink Pair Share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How can you begin?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solidFill>
            <a:srgbClr val="99ccff">
              <a:alpha val="49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Consider what kind of access your students have.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Do they have home access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Can you get time in the school computer lab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Consider what you want to accomplish.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Information dissemination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Student discussion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Student publication?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Educators to Check Out Online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001000" cy="5791320"/>
          </a:xfrm>
          <a:prstGeom prst="rect">
            <a:avLst/>
          </a:prstGeom>
          <a:solidFill>
            <a:srgbClr val="99ccff">
              <a:alpha val="46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Will Richardson’s Webblog-ed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he Web 2.0 guru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2"/>
              </a:rPr>
              <a:t>http://weblogg-ed.com/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Vicki Davis’ Cool Cat Teacher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Gives specific instructions for starting blogs, etc. and she is really on top of new technology as it becomes available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3"/>
              </a:rPr>
              <a:t>http://coolcatteacher.blogspot.co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Scott Elias’ Dare I Disturb the Universe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n administrator who *gasp* questions his practices and tries to improve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4"/>
              </a:rPr>
              <a:t>http://blog.scottjelias.net/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Epiphany in Baltimore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n East Coast Math Teacher who is getting his Master’s and trying to improve his teaching all the time: sound familiar?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Verdana"/>
                <a:hlinkClick r:id="rId5"/>
              </a:rPr>
              <a:t>http://epiphanyinbaltimore.blogspot.com/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Think Pair Share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5867280" cy="243864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What might you do with technology in your classroom?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6553080" cy="762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Why Technology in the Classroom?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2209320"/>
            <a:ext cx="6324480" cy="3505320"/>
          </a:xfrm>
          <a:prstGeom prst="rect">
            <a:avLst/>
          </a:prstGeom>
          <a:solidFill>
            <a:srgbClr val="99ccff">
              <a:alpha val="48000"/>
            </a:srgbClr>
          </a:solidFill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Kids love it (wow factor)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onnection opportunities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You with other educators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Kids with other kids 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Kids learn to lear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Doing something new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010280" cy="76212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We hear a lot about thi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848720" cy="5675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352680" y="4800600"/>
            <a:ext cx="3353040" cy="838080"/>
          </a:xfrm>
          <a:prstGeom prst="rect">
            <a:avLst/>
          </a:prstGeom>
          <a:solidFill>
            <a:srgbClr val="99ccff">
              <a:alpha val="48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and these.</a:t>
            </a:r>
            <a:endParaRPr b="0" lang="en-US" sz="3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676520" y="5486400"/>
            <a:ext cx="1752480" cy="1371600"/>
          </a:xfrm>
          <a:prstGeom prst="rightArrow">
            <a:avLst>
              <a:gd name="adj1" fmla="val 50000"/>
              <a:gd name="adj2" fmla="val 31942"/>
            </a:avLst>
          </a:prstGeom>
          <a:solidFill>
            <a:srgbClr val="99ccff"/>
          </a:solidFill>
          <a:ln w="936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76520" y="762120"/>
            <a:ext cx="1676160" cy="1371600"/>
          </a:xfrm>
          <a:prstGeom prst="rightArrow">
            <a:avLst>
              <a:gd name="adj1" fmla="val 47463"/>
              <a:gd name="adj2" fmla="val 49645"/>
            </a:avLst>
          </a:prstGeom>
          <a:solidFill>
            <a:srgbClr val="99ccff"/>
          </a:solidFill>
          <a:ln w="936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o, what about…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" y="198360"/>
            <a:ext cx="9140760" cy="6659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114800"/>
            <a:ext cx="5715000" cy="91440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 Home Page with links to class pages along with a daily calendar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320" y="487440"/>
            <a:ext cx="9067680" cy="6294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114800"/>
            <a:ext cx="5715000" cy="91440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 Class Page with links to handouts and daily PowerPoint presentations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Student Project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2742840"/>
            <a:ext cx="4191120" cy="76212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tudent Review and Overview of </a:t>
            </a:r>
            <a:r>
              <a:rPr b="0" i="1" lang="en-US" sz="2000" spc="-1" strike="noStrike">
                <a:solidFill>
                  <a:srgbClr val="004080"/>
                </a:solidFill>
                <a:latin typeface="Verdana"/>
              </a:rPr>
              <a:t>A Brave New World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364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8120" y="2742840"/>
            <a:ext cx="4114800" cy="60948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tudent Discussio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848720" cy="6824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2514240"/>
            <a:ext cx="4572000" cy="1066680"/>
          </a:xfrm>
          <a:prstGeom prst="rect">
            <a:avLst/>
          </a:prstGeom>
          <a:solidFill>
            <a:srgbClr val="99ccff">
              <a:alpha val="47000"/>
            </a:srgbClr>
          </a:solidFill>
          <a:ln w="3240">
            <a:solidFill>
              <a:srgbClr val="004080"/>
            </a:solidFill>
            <a:miter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Arial"/>
              </a:rPr>
              <a:t>A way for students to contact you, even if they have lost your email address (for the third time)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03:26:21Z</dcterms:created>
  <dc:creator>Annaliese Werner</dc:creator>
  <dc:description/>
  <dc:language>en-US</dc:language>
  <cp:lastModifiedBy>Annaliese Werner</cp:lastModifiedBy>
  <cp:lastPrinted>2007-12-09T06:18:53Z</cp:lastPrinted>
  <dcterms:modified xsi:type="dcterms:W3CDTF">2007-12-09T06:19:38Z</dcterms:modified>
  <cp:revision>19</cp:revision>
  <dc:subject/>
  <dc:title>PowerPoint Presentation</dc:title>
</cp:coreProperties>
</file>